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AC2D-7CD8-4F0D-8A37-507B12AD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945B-02F9-40CD-B841-89A88E22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B1EF-880E-4B9E-862C-862FAEEC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56E3-52D0-4C78-A8FA-5EDFCA34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C7D-D3C3-476E-9A90-C6F1FBC1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BBF-D69D-4476-895A-ACFE8CA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DD7-9275-42F1-816B-DE85671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46F1-F1C5-4080-9794-46116A0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4A4A-DDD0-4AF0-A301-72A8EDE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34EF-2A2C-4B16-96E6-86C991A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9EB6-BE63-437F-A2CE-EDD8DD9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B251-FC8C-482D-89CF-E960FC0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A2C5-58DD-4E62-9AAB-7697562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04B7-AF62-466A-B8B1-9E54EE5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1184-547C-4265-9436-52373D0B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37AC-D1A9-4137-A20B-00BC6397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D841-CE07-453F-9F01-38BB2EE2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7BC6-7D80-4A77-8F32-C9EDFE9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783F-8802-41F8-B640-16F02739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1805-6A44-4404-AE7F-C6B7887E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BE6A-59B1-41E7-8BEF-F106504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6171E-A9BE-4A8E-BC42-54187E46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F40B-A150-45D3-9BD2-9B986E4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6FAE-31A4-4318-9ACA-5042BE0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9202-A718-40E6-95D2-70BE19BE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1945-5FAB-4092-B5F6-2F6AD71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34E9-A0CE-4278-8F5C-43EBFC2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B58E-D78F-4A92-8969-D247599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1A31-58EC-4500-A227-862BCB40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700C-F72A-43FE-A4A6-9080127E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E671-79FA-449E-A408-390950B0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3077-6CCA-49CB-8E92-A4F1788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B665-BEC7-443B-B27F-B10FA9C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B9D7-5B47-41C2-8908-1F57E042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6D54-C88A-41C1-AC2B-9FA3A756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61B0-8FB3-4616-95FB-DB02A75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DA04-2D87-461E-A8DB-32FD9C3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B33D-A074-4EDE-B9DF-E8852FA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6360-D981-4622-BFE5-03B13603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7206-C85A-4C8F-89F6-59A0475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A016-7E1A-4FF2-AA3B-EBF6A173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60C9-8E7F-4E8C-8B83-1EFB66D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6A6E-EE07-4675-9E6F-B732F83A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B269-409E-449A-9515-127A17EB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3387-8E73-4CAE-8A8F-43CA759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C33EF-C0BE-4204-997D-35CABDC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5909-D662-450E-9A4B-0061272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34F4-A550-42DE-8458-4C0E835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CBE3-3B19-4876-82A4-B33D0ACE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F6B5-E513-4F64-A2B3-51A6665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DB1B-D5CF-4EE0-89C0-4C2EFE3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E079F-71C6-4E9B-B040-03B4E81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3BD3-4023-41B5-9B1D-5AE3C8F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E18C-6209-4CC8-8E98-AC1BFAD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45C2-F5B5-4043-803F-54C5225D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2D23-FD54-4DB4-9E40-CE638EF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FA0C-D381-4FF3-817D-F720B73D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3B14-65F3-4FEC-9D20-5C0AC47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7E14-D185-4375-9E29-91790DD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8A4F-B48B-4162-8578-A878A9E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14C-85EB-405A-814F-123335DC3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A2F3-19B5-4035-82FB-7E1489BF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F5F0-B253-421E-B876-0F9BDA6F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5B7E-2C09-41CC-AF75-C6E75498A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9124-D47A-4B66-9343-5A94DC6D3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ueva Moda Catalog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ailan O’Le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895480" y="19810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0" descr="155749_c"/>
          <p:cNvPicPr/>
          <p:nvPr/>
        </p:nvPicPr>
        <p:blipFill>
          <a:blip r:embed="rId2"/>
          <a:stretch/>
        </p:blipFill>
        <p:spPr>
          <a:xfrm>
            <a:off x="7162920" y="1676520"/>
            <a:ext cx="1452600" cy="2057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301993_c"/>
          <p:cNvPicPr/>
          <p:nvPr/>
        </p:nvPicPr>
        <p:blipFill>
          <a:blip r:embed="rId3"/>
          <a:stretch/>
        </p:blipFill>
        <p:spPr>
          <a:xfrm>
            <a:off x="2819520" y="1676520"/>
            <a:ext cx="2474640" cy="3200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3"/>
          <p:cNvSpPr/>
          <p:nvPr/>
        </p:nvSpPr>
        <p:spPr>
          <a:xfrm>
            <a:off x="251460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43828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438280" y="4876920"/>
            <a:ext cx="2895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linda lleva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amis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in mangu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de,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nc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r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sado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os pantalones corto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zu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a pulsera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ranjad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nco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ño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na llev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ét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is 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os blue j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9" descr="303330_c"/>
          <p:cNvPicPr/>
          <p:nvPr/>
        </p:nvPicPr>
        <p:blipFill>
          <a:blip r:embed="rId2"/>
          <a:stretch/>
        </p:blipFill>
        <p:spPr>
          <a:xfrm>
            <a:off x="2514600" y="1981080"/>
            <a:ext cx="27972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302216_c"/>
          <p:cNvPicPr/>
          <p:nvPr/>
        </p:nvPicPr>
        <p:blipFill>
          <a:blip r:embed="rId2"/>
          <a:stretch/>
        </p:blipFill>
        <p:spPr>
          <a:xfrm rot="20194800">
            <a:off x="533520" y="1218960"/>
            <a:ext cx="2798640" cy="39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301671_c"/>
          <p:cNvPicPr/>
          <p:nvPr/>
        </p:nvPicPr>
        <p:blipFill>
          <a:blip r:embed="rId3"/>
          <a:stretch/>
        </p:blipFill>
        <p:spPr>
          <a:xfrm rot="21352800">
            <a:off x="5105160" y="1676160"/>
            <a:ext cx="2955960" cy="41907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 rot="21374400">
            <a:off x="2361960" y="464832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delaria llev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abrig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ojo y negro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suete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jo , los blue j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152280" y="444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23" descr="302388_c"/>
          <p:cNvPicPr/>
          <p:nvPr/>
        </p:nvPicPr>
        <p:blipFill>
          <a:blip r:embed="rId2"/>
          <a:stretch/>
        </p:blipFill>
        <p:spPr>
          <a:xfrm rot="766800">
            <a:off x="5370120" y="1591920"/>
            <a:ext cx="2367000" cy="33526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4"/>
          <p:cNvSpPr/>
          <p:nvPr/>
        </p:nvSpPr>
        <p:spPr>
          <a:xfrm rot="881400">
            <a:off x="5181480" y="4648320"/>
            <a:ext cx="189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yde llev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vaqueros blancos , la camis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ron y blanco 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pulser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ron y neg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20" descr="302126_2_bem_c"/>
          <p:cNvPicPr/>
          <p:nvPr/>
        </p:nvPicPr>
        <p:blipFill>
          <a:blip r:embed="rId3"/>
          <a:stretch/>
        </p:blipFill>
        <p:spPr>
          <a:xfrm rot="20498400">
            <a:off x="759960" y="2383920"/>
            <a:ext cx="269100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s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05758151-02"/>
          <p:cNvPicPr/>
          <p:nvPr/>
        </p:nvPicPr>
        <p:blipFill>
          <a:blip r:embed="rId2"/>
          <a:stretch/>
        </p:blipFill>
        <p:spPr>
          <a:xfrm rot="21148200">
            <a:off x="456840" y="2133360"/>
            <a:ext cx="1727280" cy="2590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00026565-02"/>
          <p:cNvPicPr/>
          <p:nvPr/>
        </p:nvPicPr>
        <p:blipFill>
          <a:blip r:embed="rId3"/>
          <a:stretch/>
        </p:blipFill>
        <p:spPr>
          <a:xfrm rot="703800">
            <a:off x="2819520" y="3962520"/>
            <a:ext cx="1726920" cy="2590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87533964-02"/>
          <p:cNvPicPr/>
          <p:nvPr/>
        </p:nvPicPr>
        <p:blipFill>
          <a:blip r:embed="rId4"/>
          <a:stretch/>
        </p:blipFill>
        <p:spPr>
          <a:xfrm>
            <a:off x="6248520" y="2133720"/>
            <a:ext cx="1676160" cy="1874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86806698-01"/>
          <p:cNvPicPr/>
          <p:nvPr/>
        </p:nvPicPr>
        <p:blipFill>
          <a:blip r:embed="rId5"/>
          <a:stretch/>
        </p:blipFill>
        <p:spPr>
          <a:xfrm>
            <a:off x="5943600" y="4648320"/>
            <a:ext cx="1684440" cy="20574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9"/>
          <p:cNvSpPr/>
          <p:nvPr/>
        </p:nvSpPr>
        <p:spPr>
          <a:xfrm rot="21098400">
            <a:off x="304560" y="1599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Col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Box 10"/>
          <p:cNvSpPr/>
          <p:nvPr/>
        </p:nvSpPr>
        <p:spPr>
          <a:xfrm rot="851400">
            <a:off x="3201840" y="3505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Are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61722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Ani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617220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Bol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forever21.com/images/jeans/00030493-03.jpg"/>
          <p:cNvPicPr/>
          <p:nvPr/>
        </p:nvPicPr>
        <p:blipFill>
          <a:blip r:embed="rId2"/>
          <a:stretch/>
        </p:blipFill>
        <p:spPr>
          <a:xfrm rot="20219400">
            <a:off x="380520" y="434304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www.forever21.com/images/jeans/86807503-02.jpg"/>
          <p:cNvPicPr/>
          <p:nvPr/>
        </p:nvPicPr>
        <p:blipFill>
          <a:blip r:embed="rId3"/>
          <a:stretch/>
        </p:blipFill>
        <p:spPr>
          <a:xfrm rot="786000">
            <a:off x="250560" y="45540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www.forever21.com/images/jeans/00030865-04.jpg"/>
          <p:cNvPicPr/>
          <p:nvPr/>
        </p:nvPicPr>
        <p:blipFill>
          <a:blip r:embed="rId4"/>
          <a:stretch/>
        </p:blipFill>
        <p:spPr>
          <a:xfrm rot="20039400">
            <a:off x="6921000" y="53316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www.forever21.com/images/jeans/00006368-03.jpg"/>
          <p:cNvPicPr/>
          <p:nvPr/>
        </p:nvPicPr>
        <p:blipFill>
          <a:blip r:embed="rId5"/>
          <a:stretch/>
        </p:blipFill>
        <p:spPr>
          <a:xfrm rot="1210200">
            <a:off x="7314840" y="4689360"/>
            <a:ext cx="1333440" cy="2000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http://www.forever21.com/images/jeans/87533724-01.jpg"/>
          <p:cNvPicPr/>
          <p:nvPr/>
        </p:nvPicPr>
        <p:blipFill>
          <a:blip r:embed="rId6"/>
          <a:stretch/>
        </p:blipFill>
        <p:spPr>
          <a:xfrm>
            <a:off x="3733920" y="243828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 rot="1685400">
            <a:off x="7850160" y="3734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 Gafas de 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3809880" y="1295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Blusa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marron 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Falda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neg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Box 10"/>
          <p:cNvSpPr/>
          <p:nvPr/>
        </p:nvSpPr>
        <p:spPr>
          <a:xfrm rot="19731000">
            <a:off x="6331320" y="96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Gu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Box 11"/>
          <p:cNvSpPr/>
          <p:nvPr/>
        </p:nvSpPr>
        <p:spPr>
          <a:xfrm rot="838800">
            <a:off x="887040" y="226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Buf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Box 12"/>
          <p:cNvSpPr/>
          <p:nvPr/>
        </p:nvSpPr>
        <p:spPr>
          <a:xfrm rot="20017200">
            <a:off x="3960" y="392904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 Bo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36Z</dcterms:created>
  <dc:creator>olearycai</dc:creator>
  <dc:description/>
  <dc:language>en-US</dc:language>
  <cp:lastModifiedBy>Gina</cp:lastModifiedBy>
  <dcterms:modified xsi:type="dcterms:W3CDTF">2011-12-16T03:06:43Z</dcterms:modified>
  <cp:revision>23</cp:revision>
  <dc:subject/>
  <dc:title>Catalog de Ropa </dc:title>
</cp:coreProperties>
</file>